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385380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6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6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560" y="404280"/>
            <a:ext cx="46083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48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000" y="385380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48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9600" y="148392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40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9600" y="3853800"/>
            <a:ext cx="27356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404280"/>
            <a:ext cx="46083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385380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403560"/>
            <a:ext cx="4608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1483920"/>
            <a:ext cx="41457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3853800"/>
            <a:ext cx="84960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324000" y="1125360"/>
            <a:ext cx="8569080" cy="1429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44" y="0"/>
                </a:lnTo>
                <a:lnTo>
                  <a:pt x="544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651640" y="6237000"/>
            <a:ext cx="3278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10" descr="magistrat-mesta-jihlavy"/>
          <p:cNvPicPr/>
          <p:nvPr/>
        </p:nvPicPr>
        <p:blipFill>
          <a:blip r:embed="rId2"/>
          <a:stretch/>
        </p:blipFill>
        <p:spPr>
          <a:xfrm>
            <a:off x="5148360" y="333360"/>
            <a:ext cx="3754440" cy="59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324000" y="1125360"/>
            <a:ext cx="8569080" cy="14292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27" y="0"/>
                </a:lnTo>
                <a:lnTo>
                  <a:pt x="527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5"/>
          <p:cNvSpPr/>
          <p:nvPr/>
        </p:nvSpPr>
        <p:spPr>
          <a:xfrm>
            <a:off x="324000" y="6165720"/>
            <a:ext cx="84960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9" descr="magistrat-mesta-jihlavy"/>
          <p:cNvPicPr/>
          <p:nvPr/>
        </p:nvPicPr>
        <p:blipFill>
          <a:blip r:embed="rId2"/>
          <a:stretch/>
        </p:blipFill>
        <p:spPr>
          <a:xfrm>
            <a:off x="5148360" y="333360"/>
            <a:ext cx="3754440" cy="5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jezek"/>
          <p:cNvPicPr/>
          <p:nvPr/>
        </p:nvPicPr>
        <p:blipFill>
          <a:blip r:embed="rId3"/>
          <a:stretch/>
        </p:blipFill>
        <p:spPr>
          <a:xfrm>
            <a:off x="250920" y="0"/>
            <a:ext cx="2612880" cy="90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TAZNÍKOVÉ ŠETŘENÍ MEZI ZAMĚSTNANCI 2018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238 odevzdaných dotazníků, tj. 68 %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vspj-cb5"/>
          <p:cNvPicPr/>
          <p:nvPr/>
        </p:nvPicPr>
        <p:blipFill>
          <a:blip r:embed="rId1"/>
          <a:stretch/>
        </p:blipFill>
        <p:spPr>
          <a:xfrm>
            <a:off x="6516720" y="2684520"/>
            <a:ext cx="2176560" cy="1278000"/>
          </a:xfrm>
          <a:prstGeom prst="rect">
            <a:avLst/>
          </a:prstGeom>
          <a:ln w="0">
            <a:noFill/>
          </a:ln>
        </p:spPr>
      </p:pic>
      <p:pic>
        <p:nvPicPr>
          <p:cNvPr id="88" name="Obdélník 1" descr=""/>
          <p:cNvPicPr/>
          <p:nvPr/>
        </p:nvPicPr>
        <p:blipFill>
          <a:blip r:embed="rId2"/>
          <a:stretch/>
        </p:blipFill>
        <p:spPr>
          <a:xfrm>
            <a:off x="542880" y="2693880"/>
            <a:ext cx="46386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148392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Má organizace definované hodnoty, které jsou pro ni důležité?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Obrázek 1" descr=""/>
          <p:cNvPicPr/>
          <p:nvPr/>
        </p:nvPicPr>
        <p:blipFill>
          <a:blip r:embed="rId1"/>
          <a:stretch/>
        </p:blipFill>
        <p:spPr>
          <a:xfrm>
            <a:off x="1039680" y="1936800"/>
            <a:ext cx="65566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585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2895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971880" cy="21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3963960" y="3284640"/>
            <a:ext cx="4363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5824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460836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Tahoma"/>
              </a:rPr>
              <a:t>Průzkum spokojenosti klientů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184720" cy="2909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396252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12:13:18Z</dcterms:created>
  <dc:creator>a</dc:creator>
  <dc:description/>
  <dc:language>en-US</dc:language>
  <cp:lastModifiedBy>BRADOVÁ Jaroslava Ing.</cp:lastModifiedBy>
  <cp:lastPrinted>2017-09-22T05:06:21Z</cp:lastPrinted>
  <dcterms:modified xsi:type="dcterms:W3CDTF">2020-07-07T10:33:56Z</dcterms:modified>
  <cp:revision>143</cp:revision>
  <dc:subject/>
  <dc:title>Snímek 1</dc:title>
</cp:coreProperties>
</file>